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4205-D704-4108-8AFD-73A0B23DB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1B60-09B5-47F0-B678-605D408DB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0285-8798-4EF8-A1B8-33D626149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F74B-232F-4FFF-9DB9-58033CBD01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9E64-CF8A-4A96-8D38-91C12DFE15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4E45-959D-42C0-AEF2-893A644F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127-D3F3-4066-90DB-083514E5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25C5-5F96-4201-848A-3FF4AC80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D3F-F5D9-4345-9213-4CF89940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440-7F0C-4711-8B35-9A59B2E3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FBB-9D52-4B31-AD75-CBCDDC30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755-39A1-44A1-9B10-EEC9C794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EEA-B0D1-42CD-9F38-C53E8559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542-32D6-4F8E-A081-DE150484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CBB-B0C5-4F02-9CCC-39265D89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221-1232-42F4-AD32-1A266C2A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9C7-78E3-4CD3-B161-63E510B6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3B06-2B0A-4BD6-A967-D9BFA94E297D}" type="slidenum">
              <a:rPr b="0" lang="sw-K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GIAR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egrated Systems Approach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 Research 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. Asiedu, I. Hoeschle-Zeledon, and E. K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52.jpg                                                         0004BEA7Macintosh HD                   B3585E45:"/>
          <p:cNvPicPr/>
          <p:nvPr/>
        </p:nvPicPr>
        <p:blipFill>
          <a:blip r:embed="rId1">
            <a:alphaModFix amt="58000"/>
          </a:blip>
          <a:srcRect l="0" t="12283" r="0" b="24258"/>
          <a:stretch/>
        </p:blipFill>
        <p:spPr>
          <a:xfrm>
            <a:off x="2057400" y="2438280"/>
            <a:ext cx="502776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9132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1.1 Strategic Research Them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1: Approaches and models for strengthening innovation systems, building stakeholder innovation capacity, and linking knowledge to policy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2: Reducing vulnerability and managing risk, leading to resilient dryland agro-ecosystems with less vulnerable and improved livelihoods of rural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3: Sustainable intensification for more productive, profitable and diversified dryland agriculture with well-established linkages to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4: Measuring impact and cross-regional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 rot="16200000">
            <a:off x="3384360" y="154620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701720" y="2521080"/>
            <a:ext cx="4535640" cy="1585800"/>
          </a:xfrm>
          <a:prstGeom prst="rtTriangle">
            <a:avLst/>
          </a:prstGeom>
          <a:solidFill>
            <a:srgbClr val="cc33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flipH="1">
            <a:off x="3047400" y="2517840"/>
            <a:ext cx="4537080" cy="1585800"/>
          </a:xfrm>
          <a:prstGeom prst="rtTriangle">
            <a:avLst/>
          </a:prstGeom>
          <a:solidFill>
            <a:srgbClr val="99cc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 rot="5400000">
            <a:off x="3384000" y="-190008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801880" y="612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  <a:ea typeface="Calibri"/>
              </a:rPr>
              <a:t>SRT1. Better functioning inno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 rot="19846200">
            <a:off x="1253160" y="144000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1 Innov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 rot="1661400">
            <a:off x="6470280" y="1584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025880" y="12654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893320" y="54133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RT4. Targeting, charac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&amp;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 rot="1396800">
            <a:off x="1038240" y="43462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1 Futur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 rot="20110200">
            <a:off x="5855400" y="4346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3 Measuring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675160" y="511956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2 Characterization and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 rot="1163400">
            <a:off x="1694520" y="300672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2. Reduced vulner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&amp;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 rot="20458800">
            <a:off x="4822920" y="293688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3. Sustainable inten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812240" y="338292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1811520" y="3611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181224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246000" y="345924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6250320" y="36576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625392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4392720" y="3352680"/>
            <a:ext cx="433440" cy="82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 rot="2816400">
            <a:off x="4416840" y="3766320"/>
            <a:ext cx="201960" cy="26640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5"/>
          <p:cNvSpPr/>
          <p:nvPr/>
        </p:nvSpPr>
        <p:spPr>
          <a:xfrm rot="2816400">
            <a:off x="4588200" y="3502800"/>
            <a:ext cx="201600" cy="2667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H="1" flipV="1">
            <a:off x="4594320" y="3720600"/>
            <a:ext cx="158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85800" y="641196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CRP1.1 Strategic Research Themes (SRTs) &amp; thei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74520" y="152280"/>
            <a:ext cx="9069480" cy="5410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38088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P 1.1 Benchmark Areas focusing on reducing vulnerability (SRT2 type) or on sustainable intensification (SRT3 type). Circles/ovals indicate the 5 target 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5670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52280" y="60958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on Site Transects and Satellite Sites in the West African Sahel and dry sava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2680" y="64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Impact  zones and IITA hu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3480" y="1215720"/>
            <a:ext cx="4740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duction system plat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63920" y="852120"/>
            <a:ext cx="3879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llaborativ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24400" y="1855440"/>
            <a:ext cx="381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USAID Feed the fu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GRA &amp; BMG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Millennium vill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Regional prio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ARA learning si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-9360" y="1967040"/>
            <a:ext cx="531792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33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tegration of IITA research with C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ject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le 3"/>
          <p:cNvSpPr/>
          <p:nvPr/>
        </p:nvSpPr>
        <p:spPr>
          <a:xfrm>
            <a:off x="762120" y="3048120"/>
            <a:ext cx="1728720" cy="1447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technology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Genetic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Up-Down Arrow 4"/>
          <p:cNvSpPr/>
          <p:nvPr/>
        </p:nvSpPr>
        <p:spPr>
          <a:xfrm>
            <a:off x="1295280" y="2619360"/>
            <a:ext cx="457200" cy="533520"/>
          </a:xfrm>
          <a:prstGeom prst="upDown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5"/>
          <p:cNvSpPr/>
          <p:nvPr/>
        </p:nvSpPr>
        <p:spPr>
          <a:xfrm>
            <a:off x="2590920" y="312408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5, CRP 1.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n Arrow 9"/>
          <p:cNvSpPr/>
          <p:nvPr/>
        </p:nvSpPr>
        <p:spPr>
          <a:xfrm flipV="1">
            <a:off x="5410080" y="2743200"/>
            <a:ext cx="451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6"/>
          <p:cNvSpPr/>
          <p:nvPr/>
        </p:nvSpPr>
        <p:spPr>
          <a:xfrm>
            <a:off x="4687920" y="3071880"/>
            <a:ext cx="1941480" cy="13939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Sciences &amp; Commerc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2, CRP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wn Arrow 10"/>
          <p:cNvSpPr/>
          <p:nvPr/>
        </p:nvSpPr>
        <p:spPr>
          <a:xfrm flipV="1">
            <a:off x="7467480" y="2554200"/>
            <a:ext cx="45108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ed Rectangle 7"/>
          <p:cNvSpPr/>
          <p:nvPr/>
        </p:nvSpPr>
        <p:spPr>
          <a:xfrm>
            <a:off x="6719760" y="3065400"/>
            <a:ext cx="1758960" cy="1393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on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3.5, CRP 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8"/>
          <p:cNvSpPr/>
          <p:nvPr/>
        </p:nvSpPr>
        <p:spPr>
          <a:xfrm flipV="1">
            <a:off x="3352680" y="2743200"/>
            <a:ext cx="451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sion and system level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duce poverty and hunger, improve human health and nutrition, and enhance ecosystem resilience through high-quality international agricultural research, part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rural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nutri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management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GIAR Research Programs (CR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going change process will in the near future see the operations of the CGIAR implemented through a number Research Programs (CRP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imed to better coordinate R4D efforts, enhance efficiencies, and encourage cooperation and collaboration with a focus on effective partnerships to achieve more development imp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840" y="27432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GIAR System on-going Refo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057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security, Poverty, Natural  Resources, Under-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4" descr=""/>
          <p:cNvPicPr/>
          <p:nvPr/>
        </p:nvPicPr>
        <p:blipFill>
          <a:blip r:embed="rId1"/>
          <a:srcRect l="0" t="12736" r="0" b="7448"/>
          <a:stretch/>
        </p:blipFill>
        <p:spPr>
          <a:xfrm>
            <a:off x="4456080" y="1951200"/>
            <a:ext cx="4483080" cy="470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31840" y="1951200"/>
            <a:ext cx="3886200" cy="470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0" name="Rectangle 6"/>
          <p:cNvSpPr/>
          <p:nvPr/>
        </p:nvSpPr>
        <p:spPr>
          <a:xfrm>
            <a:off x="546120" y="3710160"/>
            <a:ext cx="33796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Impact by 202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crease yield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ustain annual growth 0.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duce poverty 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AR Resear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87440"/>
          <a:ext cx="8229600" cy="6370560"/>
        </p:xfrm>
        <a:graphic>
          <a:graphicData uri="http://schemas.openxmlformats.org/drawingml/2006/table">
            <a:tbl>
              <a:tblPr/>
              <a:tblGrid>
                <a:gridCol w="792000"/>
                <a:gridCol w="5639040"/>
                <a:gridCol w="179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duction systems in dry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ystems for the humid tr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atic agricultur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ies, institutions and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SP – A global rice science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s, tubers and ban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leg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land 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, milk an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 for nutrition and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land and eco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, trees and agrofore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change, agriculture, food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2"/>
          <p:cNvSpPr/>
          <p:nvPr/>
        </p:nvSpPr>
        <p:spPr>
          <a:xfrm>
            <a:off x="914400" y="147600"/>
            <a:ext cx="7543800" cy="67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Group 47" descr=""/>
          <p:cNvPicPr/>
          <p:nvPr/>
        </p:nvPicPr>
        <p:blipFill>
          <a:blip r:embed="rId1"/>
          <a:stretch/>
        </p:blipFill>
        <p:spPr>
          <a:xfrm>
            <a:off x="1749600" y="4608360"/>
            <a:ext cx="1341360" cy="1395720"/>
          </a:xfrm>
          <a:prstGeom prst="rect">
            <a:avLst/>
          </a:prstGeom>
          <a:ln w="0">
            <a:noFill/>
          </a:ln>
        </p:spPr>
      </p:pic>
      <p:sp>
        <p:nvSpPr>
          <p:cNvPr id="65" name="Freeform 50"/>
          <p:cNvSpPr/>
          <p:nvPr/>
        </p:nvSpPr>
        <p:spPr>
          <a:xfrm>
            <a:off x="2241720" y="2457360"/>
            <a:ext cx="4959360" cy="29577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3360" h="1968">
                <a:moveTo>
                  <a:pt x="1776" y="1968"/>
                </a:moveTo>
                <a:lnTo>
                  <a:pt x="0" y="1392"/>
                </a:lnTo>
                <a:lnTo>
                  <a:pt x="0" y="0"/>
                </a:lnTo>
                <a:lnTo>
                  <a:pt x="3360" y="0"/>
                </a:lnTo>
                <a:lnTo>
                  <a:pt x="3360" y="1440"/>
                </a:lnTo>
                <a:lnTo>
                  <a:pt x="1776" y="1968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311560" y="2529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1.2 Humidtropics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                   NRM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Rectangle 5"/>
          <p:cNvGrpSpPr/>
          <p:nvPr/>
        </p:nvGrpSpPr>
        <p:grpSpPr>
          <a:xfrm>
            <a:off x="1359000" y="2120760"/>
            <a:ext cx="6657840" cy="274680"/>
            <a:chOff x="1359000" y="2120760"/>
            <a:chExt cx="6657840" cy="274680"/>
          </a:xfrm>
        </p:grpSpPr>
        <p:pic>
          <p:nvPicPr>
            <p:cNvPr id="68" name="Rectangle 5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6657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2133720"/>
              <a:ext cx="6629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6"/>
          <p:cNvSpPr/>
          <p:nvPr/>
        </p:nvSpPr>
        <p:spPr>
          <a:xfrm>
            <a:off x="7201080" y="2168640"/>
            <a:ext cx="97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2311560" y="2168640"/>
            <a:ext cx="48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914400" y="2529000"/>
            <a:ext cx="125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201080" y="2529000"/>
            <a:ext cx="125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2286000" y="2133720"/>
            <a:ext cx="444600" cy="26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705720" y="2133720"/>
            <a:ext cx="495360" cy="23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04920" y="5335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3: Commod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Group 16" descr=""/>
          <p:cNvPicPr/>
          <p:nvPr/>
        </p:nvPicPr>
        <p:blipFill>
          <a:blip r:embed="rId5"/>
          <a:stretch/>
        </p:blipFill>
        <p:spPr>
          <a:xfrm>
            <a:off x="2511360" y="500040"/>
            <a:ext cx="1206720" cy="1023840"/>
          </a:xfrm>
          <a:prstGeom prst="rect">
            <a:avLst/>
          </a:prstGeom>
          <a:ln w="0">
            <a:noFill/>
          </a:ln>
        </p:spPr>
      </p:pic>
      <p:sp>
        <p:nvSpPr>
          <p:cNvPr id="78" name="Freeform 18"/>
          <p:cNvSpPr/>
          <p:nvPr/>
        </p:nvSpPr>
        <p:spPr>
          <a:xfrm>
            <a:off x="3708360" y="509760"/>
            <a:ext cx="1257480" cy="10000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3798720" y="552600"/>
            <a:ext cx="107640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in leg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1"/>
          <p:cNvSpPr/>
          <p:nvPr/>
        </p:nvSpPr>
        <p:spPr>
          <a:xfrm>
            <a:off x="4965840" y="509760"/>
            <a:ext cx="1257120" cy="100008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5056200" y="533520"/>
            <a:ext cx="1076400" cy="62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s, Tubers, &amp; Ban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4"/>
          <p:cNvSpPr/>
          <p:nvPr/>
        </p:nvSpPr>
        <p:spPr>
          <a:xfrm>
            <a:off x="6222960" y="509760"/>
            <a:ext cx="1187640" cy="10000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2311560" y="1519200"/>
            <a:ext cx="4889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new crop varieties/breeds and best management/husbandry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46" descr=""/>
          <p:cNvPicPr/>
          <p:nvPr/>
        </p:nvPicPr>
        <p:blipFill>
          <a:blip r:embed="rId6"/>
          <a:stretch/>
        </p:blipFill>
        <p:spPr>
          <a:xfrm>
            <a:off x="3005280" y="5005440"/>
            <a:ext cx="1341360" cy="1395360"/>
          </a:xfrm>
          <a:prstGeom prst="rect">
            <a:avLst/>
          </a:prstGeom>
          <a:ln w="0">
            <a:noFill/>
          </a:ln>
        </p:spPr>
      </p:pic>
      <p:pic>
        <p:nvPicPr>
          <p:cNvPr id="85" name="Group 53" descr=""/>
          <p:cNvPicPr/>
          <p:nvPr/>
        </p:nvPicPr>
        <p:blipFill>
          <a:blip r:embed="rId7"/>
          <a:stretch/>
        </p:blipFill>
        <p:spPr>
          <a:xfrm>
            <a:off x="4267080" y="5400720"/>
            <a:ext cx="1262160" cy="1396800"/>
          </a:xfrm>
          <a:prstGeom prst="rect">
            <a:avLst/>
          </a:prstGeom>
          <a:ln w="0">
            <a:noFill/>
          </a:ln>
        </p:spPr>
      </p:pic>
      <p:pic>
        <p:nvPicPr>
          <p:cNvPr id="86" name="Group 52" descr=""/>
          <p:cNvPicPr/>
          <p:nvPr/>
        </p:nvPicPr>
        <p:blipFill>
          <a:blip r:embed="rId8"/>
          <a:stretch/>
        </p:blipFill>
        <p:spPr>
          <a:xfrm>
            <a:off x="5389560" y="4968720"/>
            <a:ext cx="1266840" cy="1395720"/>
          </a:xfrm>
          <a:prstGeom prst="rect">
            <a:avLst/>
          </a:prstGeom>
          <a:ln w="0">
            <a:noFill/>
          </a:ln>
        </p:spPr>
      </p:pic>
      <p:pic>
        <p:nvPicPr>
          <p:cNvPr id="87" name="Group 51" descr=""/>
          <p:cNvPicPr/>
          <p:nvPr/>
        </p:nvPicPr>
        <p:blipFill>
          <a:blip r:embed="rId9"/>
          <a:stretch/>
        </p:blipFill>
        <p:spPr>
          <a:xfrm>
            <a:off x="6437160" y="4608360"/>
            <a:ext cx="1262160" cy="1395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8"/>
          <p:cNvSpPr/>
          <p:nvPr/>
        </p:nvSpPr>
        <p:spPr>
          <a:xfrm>
            <a:off x="3106800" y="42908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4132440" y="441648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Soil Ferti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0"/>
          <p:cNvSpPr/>
          <p:nvPr/>
        </p:nvSpPr>
        <p:spPr>
          <a:xfrm>
            <a:off x="5315040" y="43322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6145200" y="394164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2101680" y="397188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5"/>
          <p:cNvSpPr/>
          <p:nvPr/>
        </p:nvSpPr>
        <p:spPr>
          <a:xfrm>
            <a:off x="3848040" y="378792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6"/>
          <p:cNvSpPr/>
          <p:nvPr/>
        </p:nvSpPr>
        <p:spPr>
          <a:xfrm>
            <a:off x="3778200" y="2841480"/>
            <a:ext cx="174600" cy="198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0" h="132">
                <a:moveTo>
                  <a:pt x="0" y="132"/>
                </a:moveTo>
                <a:lnTo>
                  <a:pt x="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7"/>
          <p:cNvSpPr/>
          <p:nvPr/>
        </p:nvSpPr>
        <p:spPr>
          <a:xfrm flipH="1">
            <a:off x="3263760" y="3328920"/>
            <a:ext cx="2095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0"/>
          <p:cNvGrpSpPr/>
          <p:nvPr/>
        </p:nvGrpSpPr>
        <p:grpSpPr>
          <a:xfrm>
            <a:off x="5494320" y="2876400"/>
            <a:ext cx="733320" cy="704520"/>
            <a:chOff x="5494320" y="2876400"/>
            <a:chExt cx="733320" cy="704520"/>
          </a:xfrm>
        </p:grpSpPr>
        <p:sp>
          <p:nvSpPr>
            <p:cNvPr id="97" name="Freeform 58"/>
            <p:cNvSpPr/>
            <p:nvPr/>
          </p:nvSpPr>
          <p:spPr>
            <a:xfrm flipH="1">
              <a:off x="5494320" y="2876400"/>
              <a:ext cx="174240" cy="19872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20" h="132">
                  <a:moveTo>
                    <a:pt x="0" y="132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9"/>
            <p:cNvSpPr/>
            <p:nvPr/>
          </p:nvSpPr>
          <p:spPr>
            <a:xfrm>
              <a:off x="6018480" y="3364200"/>
              <a:ext cx="20916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22"/>
          <p:cNvSpPr/>
          <p:nvPr/>
        </p:nvSpPr>
        <p:spPr>
          <a:xfrm>
            <a:off x="6248520" y="533520"/>
            <a:ext cx="107604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 &amp; Fis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76200" y="228600"/>
            <a:ext cx="86155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971640" y="1176480"/>
            <a:ext cx="7200720" cy="4505040"/>
          </a:xfrm>
          <a:prstGeom prst="rect">
            <a:avLst/>
          </a:prstGeom>
          <a:ln w="0">
            <a:noFill/>
          </a:ln>
        </p:spPr>
      </p:pic>
      <p:sp>
        <p:nvSpPr>
          <p:cNvPr id="102" name="Title 3"/>
          <p:cNvSpPr/>
          <p:nvPr/>
        </p:nvSpPr>
        <p:spPr>
          <a:xfrm>
            <a:off x="457200" y="304920"/>
            <a:ext cx="82296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idtropics R4D Impact Mode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1.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as/systems with the deepest endemic poverty and most vulnerable populations often associated with severe natural resource degradation and extreme environmental variabi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stems with the greatest potential for impact on poverty in the short to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3:46:35Z</dcterms:created>
  <dc:creator>Woomer</dc:creator>
  <dc:description/>
  <dc:language>en-US</dc:language>
  <cp:lastModifiedBy>PBallantyne</cp:lastModifiedBy>
  <dcterms:modified xsi:type="dcterms:W3CDTF">2012-01-10T07:20:21Z</dcterms:modified>
  <cp:revision>76</cp:revision>
  <dc:subject/>
  <dc:title>Slide 1</dc:title>
</cp:coreProperties>
</file>